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19F-6B62-4450-9F02-D30F4302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2AD-C0C6-4B73-AF01-E8533B1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F5-2748-47D1-9A75-E5BAA8F6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5FE-8608-4E51-9D12-0E315CDB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B6B-3EF5-486E-A030-028C81C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03C-EDAA-4F40-9351-76E1B2F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696-26D4-486C-944E-421CD63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C06-E931-4498-83DF-49E7509C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B98-3DD8-4EE2-BD04-CFAAA19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FB3-DBA0-43BE-B66A-0D19A867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E01-38A4-4F13-ACDE-96FBDE8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82D-4F48-4C70-B406-03ECD59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4D2-2D70-48F4-9F8A-DDBD7146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4864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Floppy Dans Le No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876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éclaira derrière l’oreiller, sous la couvert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À travers sa patte et même dans sa bou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fit des ombres chino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animaux et de mon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morde quand soudain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4267080"/>
            <a:ext cx="815364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’OBSCURIT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É!  La lampe de poche s’était éteinte et la Tente n’étaitplus comme avant. Tout sembla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différent.  La Nuit était remplie de bruits bizza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Le hurlement d’une chouette OUHHH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403880"/>
            <a:ext cx="883908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e coassement d’une grenouille, ou était-ce un c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Faistant semblant d’étre une grenouille.  Un grand c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avec des dents comme un renard.  Floppy ne pouv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plus supporter d’en entendre plus, don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il boucha 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Oreil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9154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Tout à coup, il vut une forme noire et puis une aut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Elles s’approchaient vers lui devenant de plus en 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Grandes.  “Au secours,” chuchota Floppy, “L’ obscur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Va m’attrraper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335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l se jeta de plus s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Les couvertures, 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L’obscurité allait qu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Même l’attr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4648320"/>
            <a:ext cx="69343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AAHHH!”  cria Floppy quand il sort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comme un ouragan de la Tente ressembl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à un monstre du bo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876920"/>
            <a:ext cx="7620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’obscurité essaye de m’ attraper,” sanglo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Floppy.  “Ça va maintentant,” Papa le cons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ous resterons avec toi dans ta tent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0492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L’été était si chaud que les glaces à la carotte sucrée fondaient avant le premier coup de langue.  Pendant la journée, les lapins se rafraichissaient dans I’eau, et la nuit ils dormaient à l’extériur dans des 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voulait aussi dormir deh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572000"/>
            <a:ext cx="830592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     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e vas-tu pas avoir peur tout seul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demanda Pa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Je ne vais pas avoir peur,” répondit bravement Flop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257800"/>
            <a:ext cx="838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On pouvait faire une tente avec branches solides 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Une vieille converture.  La monter n’était pas fac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Mais Floppy saivait le fai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25780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e vas-tu  pas avoir peur tout seul?” demanda Mam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Je ne vais pas avoir peur,” répodit bravement Flop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80880"/>
            <a:ext cx="556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Il allait être bientôt l’heure d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Coucher.  Mamam donna une to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et BEAUCOUP de baisers à Flopp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4343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C’est l’heure d’un casse-croûte pense Floppy. La car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Sucrée avait un g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ifférent sous la 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44197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mit la cape de son hé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l était invincible maintenant.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7:47Z</dcterms:created>
  <dc:creator>CVJH-LAB</dc:creator>
  <dc:description/>
  <dc:language>en-US</dc:language>
  <cp:lastModifiedBy>nield411</cp:lastModifiedBy>
  <dcterms:modified xsi:type="dcterms:W3CDTF">2008-02-22T21:34:03Z</dcterms:modified>
  <cp:revision>7</cp:revision>
  <dc:subject/>
  <dc:title>Slide 1</dc:title>
</cp:coreProperties>
</file>